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8F2-52BE-4805-A9D3-BE50A10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DFA-76FC-4EDC-AE47-0B06EEA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A2986-59AF-4748-8691-7549D60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62008-C28B-40D2-A202-48785DB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66D4D-2429-40D9-A32B-0122BB4B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1A759-BE97-41FE-948B-03190C0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C4C36-5335-4B8D-887E-00C9980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7F0E0-1C7F-4593-9BF4-0B04C54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6A4B4-1770-47AF-A1E0-F024C1F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9EE6-71EC-400B-BDA2-A8697B3B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DF2E0-E2AA-4234-B955-D1A27583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F43AF-77C6-4486-A188-F314F7D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232-B7F2-4A1E-845A-3AC78DC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8D1B0-BC12-4C5B-A282-43831908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5F86E-32A4-4393-B92A-B2557C9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A71EA-5E24-4F58-8DB2-47D7EB2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8E220-B013-42E8-8B1C-A384F923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3F3DC-8C35-4D4E-8C04-CE96B09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6CB9-9AE6-4C6F-B46B-1301504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2C0A3-6F4C-44E8-9E20-16B84CB9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85DDC-380E-43BD-AF84-277D9D0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6DAC4-D7F4-445C-8199-3F65333C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BBA65-6002-45F8-88B5-DD299A29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469-002F-4543-9CE1-ED11956A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3F527-6069-4B49-B5DA-39E75F6B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9CE9B-182B-4F9A-B5B7-77EB5AFA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BDDD-9551-4542-A54A-F019AF56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256D-CFA4-47D6-B06C-E1A7F085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09B4D-E636-42A9-9207-DC65DD14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190A-3E92-45ED-95CE-2DFF6DD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49617-BC36-4D31-A4CA-48963783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2404E-9016-41BC-8EC2-B453FDE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55607-346A-49F3-B1CF-12CE76B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6609-91B1-42F6-89E2-F609471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EA11-2E3B-446B-81CE-D10A1EBE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189C6-5DE5-4220-B430-C1C3F54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4A935-20E0-4232-8B69-A2FEFFF2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F947-D8F0-439C-98B9-2D2ED005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9ED87-2EB3-4A9A-B1E8-C33727DD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57993-557F-4959-B0E2-48D2037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91BC4-B4DF-41FC-A19E-34F8FEC8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FC9F7-CC40-40AC-9394-1C9D892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A254-4214-449F-B256-90D1B374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94849-2AFC-4BBE-8F4C-6207CDDF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8F23D-730B-4753-A2FB-FD553419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39D-8429-4D81-9785-C93B7E1F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DE0FB-575D-43D7-80EB-C3B8B71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68B03-181F-4DB9-856E-E2C64D8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4EE8F-343D-4A5E-AA2F-EA3576A3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0E168-DEB5-48D6-8C78-84783B9B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B92EA-2963-4D14-9751-5FEE783E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23E5F-0C41-4B70-B6E7-0FD27AEF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B67B7-8140-42DA-A719-49EBA29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84EDF-162E-4C41-AEC0-E66283E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F0EB5-D2B1-4963-8D00-4F4ECEA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438F4-8FC1-4DF8-AC9E-023814F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5E4F-A6D9-4E44-8AA2-86FA8053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03440-960D-4A2D-A90B-128B305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B66AD-A199-4A0E-A8A0-F1A3E46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F06E7-C1EE-48C8-A2CA-D010B5F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5FF77-491D-4259-AFC8-FBF99F52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A11B1-FE4D-4E85-98C6-1347157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ECD4D-9A22-4B7D-8854-45CD124A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BC011-D81E-4EE5-B6DB-FC2924A8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84C23-6378-46DE-A6C7-C7AA913B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E8508-8526-40F5-9FC8-83586271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64038-94A8-4931-A7ED-E9676B4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3F26-7A48-4C36-B7E4-7E8D7BCA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F914E-8CDB-4970-87F1-961E2E0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550F9-DEED-458D-A8E5-C9CB82A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FBCFF-17B5-4537-803C-624D945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721E4-7FAF-4034-A6DD-AF8BA66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4A01B-40F8-40E2-B876-696297D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0B44F-3C6A-431E-9225-9744846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057D7-EDDC-40A0-ACF2-56AB866D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B1B2A-802E-4D92-BA75-88641DD5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04854-2BAB-4663-9DF0-8FFFD443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C45D3A-704F-4FFB-A861-DB9DA192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F84-9E88-4094-803D-393847D3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D97FDE-ED3C-4025-89B6-74E7925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3C8448-BEED-471B-A7F1-FB8E15C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3ACB94-51C6-4DE1-90DE-D7DC4881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C7BBFE-D688-49DE-8502-BEBADAA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26F6EA-C956-4192-A977-20A022B5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DECD63-E2A7-4756-BCCF-2ABAD32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E74B93-27F9-4333-ADB3-D761D2A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95830E-747A-464A-AC96-B8D396A1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90261A-CD25-49AC-AC8A-D76B2224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350C67-3318-431C-A5F1-66F75E76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2EB9-0660-4179-B0AA-FCF95BB2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182997-1652-401D-9DB8-B5E1C3D4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210889-21EC-43A5-8AE3-77918513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4930D6-C603-4BEE-BA78-783B8DD6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F8F3E6-B105-4CA5-B0BA-43EBD5A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6AB87E-305E-4B97-A7F1-F227A7DF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C3EEEB-7491-4283-9190-8A8D465E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7EEB8F-8DB4-4F9A-91D1-129D32F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B502B0-60B8-4723-8B21-4D2650E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4FDE24-1CE8-48DB-BC4F-81381B5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1B6E38-C456-44BC-AF30-599D422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AF31-86F3-4455-9BA7-DC988B4B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84F7EE-9AD4-4963-A511-C1DA97C5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E4EFC4-3B33-4B5C-8E6C-001A5793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856D6A-FE34-4A58-BC52-31288513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EE0398-BDB9-401F-9B23-B8866096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E66F18-2AFE-4C4B-AE4E-59276CC2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6E79BD-BA65-41DF-A13C-4F0E1F1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279542-CE17-422F-9CD5-D1EAD8A2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DA9898-864D-4447-BE77-7F5C15D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D55CA2-E8B3-4E31-B204-C596091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40154E-A68C-4489-9048-8492347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667-EBD4-4ED0-82A2-3F578E8F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E5D9-5158-43EC-8765-DE73810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5FBBA1-0B99-4CF7-96CA-2F22D0F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F1387D-931C-4215-8C46-2E0AE38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54B93E-4467-42A5-AE9A-87CEE628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87D10C-AB0F-4645-98A4-FFD94A01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5BC4E8-43C2-435B-B96B-A3694419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3280D-C02A-4AA2-B166-C2070FA5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BF2D7-A74B-4020-B045-3AA95177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BF832-4810-4392-A656-249A0AF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43161-80C9-4BE9-887F-E32A1CD4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D7AFC5-5512-48A8-9C82-20C63C54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753-E38A-49A4-8FEE-FED8B79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D79D6-08DF-4285-A418-75D848DB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2935F-A505-445D-A7A8-A2BFC52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6BC9D-D85C-442E-9F68-6163104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768CCE-AD0B-4A83-A1AF-1466C54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A0B5D-C8C0-4320-962A-7103267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5D60D0-CC53-48BA-B350-E23E370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94552-55C0-489D-BFAD-C0CAA76F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191C-B6F3-4145-B201-7344A70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7AFC-48E1-4D81-9004-BAD6386A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210-02CA-4055-A971-4DD7DBEF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E638-E8F1-43E0-A5A2-1708CB77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A6D0-885B-46E3-8207-4EA5BDAC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C67D-FB59-45E7-B6E3-D0E9DFA4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DFD4-6692-4713-AF46-446B5EF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09CE-DDE1-46F5-9C01-6E9102F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5EC-A0B0-414E-8E69-49D66B4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3FCD-757B-4B33-8933-83B4656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C8E9-5E66-4957-A39B-707D22F1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9F15C-5D73-4269-8802-25CEC38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BA9D-9E47-4B7A-B60C-ADEE0F6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9E51F-C0DC-40AE-B689-1496F8FF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4043-48BF-4C31-8049-F77FBD7F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14F4-9823-462C-A901-5C80CDF8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241DA-1957-4531-A2F6-51A2EF25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2E1E-03CD-4F25-88F0-FB177B8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8EE4-BDE5-4479-8611-F96E2DA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A53-0778-46B6-9D4D-CE791261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95CC-2BEB-43B1-B977-3612A97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75F6-EC20-48EF-9232-442BFB3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40CB-056A-49D1-BB0A-A110ED10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AC73-3790-427C-B792-853A2560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AA43-C1FD-4A65-B9D6-09F7238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BA56-7B23-4326-A6CD-32D0010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0E4E2-6133-4700-B925-9776F1F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8D6D5-1CDB-4B9E-8584-E2177657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A1BE-E3EB-4A7B-A12D-817ABADF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3446-F9E3-4786-A3E8-7B0BBB42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067-2FB2-46EF-8A38-4A7DF638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799F-EFC9-456B-B5F4-01FC2DF4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62CA-7EF7-4E61-859F-99D21E80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F362-92B9-441F-BE61-8990CEA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81B63-4871-4CCF-AF61-8FCB140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1EDF-42DE-4A4B-9187-0C61475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8F02-B6FB-449C-AD1B-5A9F1B2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96091-DD11-43C4-A648-D4C0B4C1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10AA-5D89-4CCC-88E6-8EB609B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85D8-71E3-4C60-BE19-6C2F1A62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6188-142D-4CB5-8D48-6F4A7FB8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0B0-FD1B-4627-9A2D-FFAFA6BA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AAAA-8CB7-40B3-AEB9-2101981A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77A36-E729-4A8B-9778-AB2C0B8C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497B4-B8BA-4553-AEEA-495C71E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D49E-C5A4-4B3F-ABBD-8600EAA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56E9-8DEF-49B8-BBF9-69777194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0387-4F60-4B7C-BD8C-86048ED3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B923A-5A91-4BE3-B4F2-63FD04CE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0698-232A-47A9-90DC-BC8A770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72F4-2EEC-4E79-AB3C-6D3FD53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11693-AFF8-4E68-A460-D9E8A29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1C0-2E80-4761-AF97-ADBE2242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7F96-89A7-4D7B-B1B3-E108D4DE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FF98-7DA0-4DB3-8163-178FA01B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87D6-FFB0-47A9-9BBD-639FD96A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C0839-AA31-422F-8D72-558C81C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EDA56-21FC-44F5-A9F8-A68C391C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59D3-3DA2-4872-B6BB-AFBBC2B6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37A5-3372-482C-B2F1-10DEE71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196D6-093C-4D40-91FE-D65B4F8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E06F-1469-4D3D-A2CD-7DEAE57C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98638-8F1B-4B89-BE00-3AEA3F3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D72-EF04-4BC7-A8D3-1409BFD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6656A-51AD-49FA-8995-40F2D81B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6779-5248-4CE3-BB26-AF63527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3592-71AC-4B80-B2C0-114C09D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D6EE-9DC7-4EDE-A00B-142839F6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47BD-DC92-4B97-A3D7-2C781F74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7C409-66E9-4D32-9A56-24F0810C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DE28-E985-415E-BDFC-8D96A48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687B5-D60E-416D-B9BF-1EFC0E2D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31E5E-6FCC-4174-A07B-B2F5050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8D61D-EF2C-4DCE-803A-5F9D0B6B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E0A-E940-49B7-8734-8CDB7716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35C9-AECC-4443-92A6-339CBF3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320D-FC46-4EF0-A78E-B93F28D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C0054-5697-4DAA-8EEB-04A9C8B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F007D-D36A-4E03-AB06-97A5ABF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D6C42-079A-41BC-A9E0-B34E93E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6A21-D932-4041-B774-9BF3B166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FD4F-D188-43F1-96BF-F23E00B7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AD95-66D0-4B20-99C8-65CF4209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ED049-7DEA-49D7-BF08-737060C4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78477-3A52-46C6-BD35-99A66E3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3151-19B2-4F7A-8CF3-A9E6844788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822-95A5-4DB0-8E14-C3E3DA0843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C3B4-6D95-467F-8A7F-33CCDAB905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08B-5A54-46C6-93E7-0EAAC3C38B0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175F-ADA7-4AB5-A3AA-44F72A6E5AA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FE25-98CC-4A97-BF1C-2BE8F86D0F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55C4-4D28-4C68-97A3-7D87830682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5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7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C8D-16AB-41C4-96EC-25DFC4847BD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48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0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C8C0-9E21-4F58-AF7F-F042A8CBBFA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5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383A-DAEA-4EFE-9662-62F740EED8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F5A-B291-4516-A5C3-48F18BCEE8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CA10-EF20-4665-9CDC-1FE9E529E2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E39-CF1D-4EA1-88B7-36FBC289E1F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EC31-E0DA-48B0-BF7B-C1ABA6FB8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345F-A2DE-4402-B59E-232EA5CBE67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D4B8-2EFD-4ADD-9893-82031A4732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8608-A037-431E-BE23-9AE5B7539F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942F-BBF1-4608-B896-EBEF5E1FE7D3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Mi Viaje a Costa Ric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3352680" y="3886200"/>
            <a:ext cx="289584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adley Hand ITC"/>
              </a:rPr>
              <a:t>Kendall P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6" descr="377333_22"/>
          <p:cNvPicPr/>
          <p:nvPr/>
        </p:nvPicPr>
        <p:blipFill>
          <a:blip r:embed="rId2"/>
          <a:stretch/>
        </p:blipFill>
        <p:spPr>
          <a:xfrm>
            <a:off x="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377333_46"/>
          <p:cNvPicPr/>
          <p:nvPr/>
        </p:nvPicPr>
        <p:blipFill>
          <a:blip r:embed="rId3"/>
          <a:stretch/>
        </p:blipFill>
        <p:spPr>
          <a:xfrm>
            <a:off x="6705720" y="3276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9" descr="377333_41"/>
          <p:cNvPicPr/>
          <p:nvPr/>
        </p:nvPicPr>
        <p:blipFill>
          <a:blip r:embed="rId4"/>
          <a:stretch/>
        </p:blipFill>
        <p:spPr>
          <a:xfrm>
            <a:off x="0" y="16765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377333_71"/>
          <p:cNvPicPr/>
          <p:nvPr/>
        </p:nvPicPr>
        <p:blipFill>
          <a:blip r:embed="rId5"/>
          <a:stretch/>
        </p:blipFill>
        <p:spPr>
          <a:xfrm>
            <a:off x="6705720" y="5105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1" descr="377333_13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2" descr="377333_12"/>
          <p:cNvPicPr/>
          <p:nvPr/>
        </p:nvPicPr>
        <p:blipFill>
          <a:blip r:embed="rId7"/>
          <a:stretch/>
        </p:blipFill>
        <p:spPr>
          <a:xfrm>
            <a:off x="0" y="3429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3" descr="377333_51"/>
          <p:cNvPicPr/>
          <p:nvPr/>
        </p:nvPicPr>
        <p:blipFill>
          <a:blip r:embed="rId8"/>
          <a:stretch/>
        </p:blipFill>
        <p:spPr>
          <a:xfrm>
            <a:off x="6705720" y="1676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4" descr="377333_10"/>
          <p:cNvPicPr/>
          <p:nvPr/>
        </p:nvPicPr>
        <p:blipFill>
          <a:blip r:embed="rId9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5"/>
          <p:cNvSpPr/>
          <p:nvPr/>
        </p:nvSpPr>
        <p:spPr>
          <a:xfrm>
            <a:off x="243828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Mi Hot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  <a:ea typeface="Arial"/>
              </a:rPr>
              <a:t>é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514600" y="1219320"/>
            <a:ext cx="380988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¡Hola! llegué ayer en el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estin Golf Resort &amp; Spa. Estoy aqui con Heidi y Julia. El hot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él es muy boñito y muy grande.  El hotél tiene la piscina grande, y los cuartos boñitos. El hotél tiene una bueña vista. Hace buen tiempo.  El sol brilla. No hasté nublado. ¡Costa Rica es muy boñ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Kend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LU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94" name="Picture 5" descr="imagesCA9GIPW1"/>
          <p:cNvPicPr/>
          <p:nvPr/>
        </p:nvPicPr>
        <p:blipFill>
          <a:blip r:embed="rId1"/>
          <a:stretch/>
        </p:blipFill>
        <p:spPr>
          <a:xfrm>
            <a:off x="6543720" y="53352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images"/>
          <p:cNvPicPr/>
          <p:nvPr/>
        </p:nvPicPr>
        <p:blipFill>
          <a:blip r:embed="rId2"/>
          <a:stretch/>
        </p:blipFill>
        <p:spPr>
          <a:xfrm>
            <a:off x="6629400" y="3809880"/>
            <a:ext cx="2381400" cy="2743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447920" y="958680"/>
            <a:ext cx="4114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¡Hola! ¿Como estas? Yo estoy bien. Hoy es Lunes. Hace buen tiempo. Hace color. No hasté nublado.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Por la m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ñan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, yo fui  mont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a caballo en la selva y en la playa.  En la selva, yo llev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 los tenis, pero en la selva llevé las sandalias. Después, yo fui 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Koki Beach Restaurante.  ¡El comido fue delicios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Kend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328680" y="480060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021280" cy="5508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Franklin Gothic Medium"/>
              </a:rPr>
              <a:t>                         </a:t>
            </a:r>
            <a:r>
              <a:rPr b="0" lang="en-US" sz="4300" spc="-1" strike="noStrike">
                <a:solidFill>
                  <a:srgbClr val="000000"/>
                </a:solidFill>
                <a:latin typeface="Aparajita"/>
              </a:rPr>
              <a:t>MARTES</a:t>
            </a:r>
            <a:endParaRPr b="0" lang="en-US" sz="4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562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QUERIDA CAITLIN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Y ES MARTES. HACE MAL TIEMPO. ESTÁ LLOVIENDO. HAY NUBES. YO FUI A MUSEO JUAN SANTAMARÍA. FUE MUY INTERESANTE. YO FUI A MONTEVERDE CHEESE FACTORY TAMBIEN. EL QUESO FUE BUENO. YO TRAJÉ UN UNBRELLA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RAZOS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NDALL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6738840" y="4905360"/>
            <a:ext cx="2467080" cy="1952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"/>
          <p:cNvPicPr/>
          <p:nvPr/>
        </p:nvPicPr>
        <p:blipFill>
          <a:blip r:embed="rId2"/>
          <a:stretch/>
        </p:blipFill>
        <p:spPr>
          <a:xfrm>
            <a:off x="6738840" y="3057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3"/>
          <a:stretch/>
        </p:blipFill>
        <p:spPr>
          <a:xfrm>
            <a:off x="6738840" y="1447920"/>
            <a:ext cx="2386080" cy="1609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4"/>
          <a:stretch/>
        </p:blipFill>
        <p:spPr>
          <a:xfrm>
            <a:off x="6738840" y="28440"/>
            <a:ext cx="238608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"/>
          <p:cNvSpPr/>
          <p:nvPr/>
        </p:nvSpPr>
        <p:spPr>
          <a:xfrm>
            <a:off x="5181480" y="-66204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ércoles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"/>
          <p:cNvSpPr/>
          <p:nvPr/>
        </p:nvSpPr>
        <p:spPr>
          <a:xfrm>
            <a:off x="1608120" y="1413000"/>
            <a:ext cx="624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Hola! ¿Como estas? Yo estoy bien. Hoy es Miércoles. Hace buen tiempo. Hace color y el sol brilla.  Yo fui a la playa. Yo fui con Heidi y Julia.  nosotros llevamos unos traje de baños y unas gafas de sol. Yo trajé la loción bronceadora y Heidi trajó unas toalla playeras. Yo practicé el surfing. Julia esquió en el agua. Buceamos y nadamos en el agua tambien. ¡Fue muy divertido! Nosotros no practicamos la plancha de vela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2"/>
          <a:stretch/>
        </p:blipFill>
        <p:spPr>
          <a:xfrm>
            <a:off x="3176640" y="4511520"/>
            <a:ext cx="2979720" cy="23464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3"/>
          <a:stretch/>
        </p:blipFill>
        <p:spPr>
          <a:xfrm>
            <a:off x="0" y="4511520"/>
            <a:ext cx="3214800" cy="2346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4"/>
          <a:stretch/>
        </p:blipFill>
        <p:spPr>
          <a:xfrm>
            <a:off x="6156360" y="4541760"/>
            <a:ext cx="3006720" cy="2316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"/>
          <p:cNvPicPr/>
          <p:nvPr/>
        </p:nvPicPr>
        <p:blipFill>
          <a:blip r:embed="rId5"/>
          <a:stretch/>
        </p:blipFill>
        <p:spPr>
          <a:xfrm>
            <a:off x="304920" y="136440"/>
            <a:ext cx="192384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1905120" y="247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Jue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2936880" y="182880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y es Jueves. El sol brilla. A veces hat nubes.Yo jugué el tenis con Heidi. Nosotros trajamos dos raquetas y tres pelotas. Yo jugué el gulfo tambien. Yo jugué con julia. Después, nosotros fuimos a Colbert Restaurante. La comida fue intaliano. ¡Es fue Delicio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7294680" y="0"/>
            <a:ext cx="1849320" cy="1676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294680" y="1666800"/>
            <a:ext cx="1877760" cy="1679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"/>
          <p:cNvPicPr/>
          <p:nvPr/>
        </p:nvPicPr>
        <p:blipFill>
          <a:blip r:embed="rId4"/>
          <a:stretch/>
        </p:blipFill>
        <p:spPr>
          <a:xfrm>
            <a:off x="7294680" y="5194440"/>
            <a:ext cx="1877760" cy="16635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5"/>
          <a:stretch/>
        </p:blipFill>
        <p:spPr>
          <a:xfrm>
            <a:off x="7294680" y="3346560"/>
            <a:ext cx="1887480" cy="1847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6"/>
          <a:stretch/>
        </p:blipFill>
        <p:spPr>
          <a:xfrm>
            <a:off x="9360" y="4572000"/>
            <a:ext cx="2498760" cy="2286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7"/>
          <a:stretch/>
        </p:blipFill>
        <p:spPr>
          <a:xfrm>
            <a:off x="9360" y="2209680"/>
            <a:ext cx="2498760" cy="2362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8"/>
          <a:stretch/>
        </p:blipFill>
        <p:spPr>
          <a:xfrm>
            <a:off x="9360" y="0"/>
            <a:ext cx="2498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1"/>
          <p:cNvSpPr/>
          <p:nvPr/>
        </p:nvSpPr>
        <p:spPr>
          <a:xfrm>
            <a:off x="1019160" y="457200"/>
            <a:ext cx="6600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¡Hola! Hace color. El sol brilla. Hoy es Viernes. Nosotros nadamos en la piscina de hotél. No fuimos a la playa.  Julia, heidi, y yo fuimos perezamos. Después, nosotros hacamos las maletas. Fuimos triste.  La viaje fue divertido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end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5812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16:01Z</dcterms:created>
  <dc:creator>palinken</dc:creator>
  <dc:description/>
  <dc:language>en-US</dc:language>
  <cp:lastModifiedBy>palinken</cp:lastModifiedBy>
  <dcterms:modified xsi:type="dcterms:W3CDTF">2012-11-30T16:40:32Z</dcterms:modified>
  <cp:revision>25</cp:revision>
  <dc:subject/>
  <dc:title>Mi Viaje a Costa Rica</dc:title>
</cp:coreProperties>
</file>